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camera.wav" ContentType="audio/x-wav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DejaVu Sans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5D3326-0B90-46F2-8E2E-66F7727AFEE0}" type="slidenum">
              <a:rPr b="0" lang="es-ES" sz="1200" spc="-1" strike="noStrike">
                <a:solidFill>
                  <a:srgbClr val="000000"/>
                </a:solidFill>
                <a:latin typeface="Arial"/>
                <a:ea typeface="DejaVu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E0884F-3996-49C6-A697-27FC67399A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E3CE6F-99E8-4775-B059-841D3C07AF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664374-D441-4B3A-B9E3-16D63BAB80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C58C8C-E079-4B6A-A5CE-57E28507B3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75A2D1-4EB0-46DE-A9FD-E5AD37F1AC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8F63-CCE1-4F70-B10B-B4D9959E4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618080"/>
            <a:ext cx="8228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FD90-2E9B-4588-AAE3-4910C4C71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61808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61808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A886-4A31-4BC0-B9CC-0422077C6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618080"/>
            <a:ext cx="2649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618080"/>
            <a:ext cx="2649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618080"/>
            <a:ext cx="2649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4D8D-205E-4B14-8C74-DBB062DEB8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9A1B-70E2-4B17-AEE2-C8DDC4D0A7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6E6F-37C4-4D05-9A6C-9451F9AC9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F502-122C-4B8D-9883-DBCA02A60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F680-1A88-4C44-9AB5-8D99A2C59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D38F-7B8E-4DBE-989D-DFBE85592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61808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DEEB-1625-4995-A14E-37CE0DC61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61808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C1FE-9ACF-45BC-8200-DAEEBFA82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618080"/>
            <a:ext cx="8228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02F3-B9E2-4176-9448-3C6152F7A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DejaVu Sans Ligh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6A1928-359D-47DD-A15F-52DB614D742C}" type="slidenum">
              <a:rPr b="0" lang="es-ES" sz="1800" spc="-1" strike="noStrike">
                <a:solidFill>
                  <a:srgbClr val="000000"/>
                </a:solidFill>
                <a:latin typeface="Arial"/>
                <a:ea typeface="DejaVu Sans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97632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LEMENTOS DE LA DINÁMICA DE SIST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3201840"/>
            <a:ext cx="6400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ción del sistema diná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agramas cau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agramas de Forr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amos los siguientes  ejempl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2289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90720" y="4038480"/>
            <a:ext cx="2895480" cy="235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943600" y="4035600"/>
            <a:ext cx="2743200" cy="2090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33720" y="2057400"/>
            <a:ext cx="533160" cy="990720"/>
          </a:xfrm>
          <a:prstGeom prst="upArrow">
            <a:avLst>
              <a:gd name="adj1" fmla="val 50000"/>
              <a:gd name="adj2" fmla="val 4645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48720" y="2133720"/>
            <a:ext cx="533160" cy="914400"/>
          </a:xfrm>
          <a:prstGeom prst="upArrow">
            <a:avLst>
              <a:gd name="adj1" fmla="val 50000"/>
              <a:gd name="adj2" fmla="val 4287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666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23623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3284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SUMO DE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71640" y="2313000"/>
            <a:ext cx="4537080" cy="1044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6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7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2189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90720" y="3886200"/>
            <a:ext cx="2361960" cy="2232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419200" cy="2128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1447920" y="1447920"/>
            <a:ext cx="533160" cy="990360"/>
          </a:xfrm>
          <a:prstGeom prst="upArrow">
            <a:avLst>
              <a:gd name="adj1" fmla="val 50000"/>
              <a:gd name="adj2" fmla="val 4643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133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1828800"/>
            <a:ext cx="533160" cy="990720"/>
          </a:xfrm>
          <a:prstGeom prst="upArrow">
            <a:avLst>
              <a:gd name="adj1" fmla="val 50000"/>
              <a:gd name="adj2" fmla="val 4645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1981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2997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0000" y="299736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1965240"/>
            <a:ext cx="5041800" cy="95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10480" cy="2256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320040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86600" y="4343400"/>
            <a:ext cx="1496880" cy="1689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7400" y="1981080"/>
            <a:ext cx="533520" cy="990720"/>
          </a:xfrm>
          <a:prstGeom prst="upArrow">
            <a:avLst>
              <a:gd name="adj1" fmla="val 50000"/>
              <a:gd name="adj2" fmla="val 4642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6668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2057400"/>
            <a:ext cx="533520" cy="990720"/>
          </a:xfrm>
          <a:prstGeom prst="upArrow">
            <a:avLst>
              <a:gd name="adj1" fmla="val 50000"/>
              <a:gd name="adj2" fmla="val 4642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25909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33577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3577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EPARARSE PARA EL EXAMEN DE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349360"/>
            <a:ext cx="45370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010280" cy="2471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676520" y="236232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2286000"/>
            <a:ext cx="685800" cy="1066680"/>
          </a:xfrm>
          <a:prstGeom prst="upArrow">
            <a:avLst>
              <a:gd name="adj1" fmla="val 50000"/>
              <a:gd name="adj2" fmla="val 3888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4382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7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25146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95280" y="3886200"/>
            <a:ext cx="2638440" cy="2655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62720" y="4191120"/>
            <a:ext cx="2430360" cy="190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71640" y="3284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B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6000" y="3429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CURSO PERCA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2479680"/>
            <a:ext cx="3743280" cy="878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6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7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0" y="2514600"/>
            <a:ext cx="19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NACIMIE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2514600"/>
            <a:ext cx="1614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POBLAC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99480" y="2895480"/>
            <a:ext cx="1319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MUE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6720" y="1643040"/>
            <a:ext cx="3510000" cy="1674720"/>
          </a:xfrm>
          <a:prstGeom prst="pie">
            <a:avLst/>
          </a:prstGeom>
          <a:noFill/>
          <a:ln w="130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0800" y="2124000"/>
            <a:ext cx="409680" cy="398520"/>
          </a:xfrm>
          <a:prstGeom prst="pie">
            <a:avLst/>
          </a:prstGeom>
          <a:solidFill>
            <a:srgbClr val="ffffff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4040" y="2455920"/>
            <a:ext cx="3738600" cy="1592280"/>
          </a:xfrm>
          <a:prstGeom prst="pie">
            <a:avLst/>
          </a:prstGeom>
          <a:noFill/>
          <a:ln w="130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8560" y="2936880"/>
            <a:ext cx="324000" cy="398520"/>
          </a:xfrm>
          <a:prstGeom prst="pie">
            <a:avLst/>
          </a:prstGeom>
          <a:solidFill>
            <a:srgbClr val="ffffff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2960" y="1609560"/>
            <a:ext cx="3660840" cy="1808280"/>
          </a:xfrm>
          <a:prstGeom prst="pie">
            <a:avLst/>
          </a:prstGeom>
          <a:noFill/>
          <a:ln w="130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34360" y="2041560"/>
            <a:ext cx="453960" cy="380880"/>
          </a:xfrm>
          <a:prstGeom prst="pie">
            <a:avLst/>
          </a:prstGeom>
          <a:solidFill>
            <a:srgbClr val="ffffff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68720" y="2340000"/>
            <a:ext cx="3908520" cy="1692360"/>
          </a:xfrm>
          <a:prstGeom prst="pie">
            <a:avLst/>
          </a:prstGeom>
          <a:noFill/>
          <a:ln w="130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30760" y="2952720"/>
            <a:ext cx="366840" cy="398520"/>
          </a:xfrm>
          <a:prstGeom prst="pie">
            <a:avLst/>
          </a:prstGeom>
          <a:solidFill>
            <a:srgbClr val="ffffff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990720"/>
            <a:ext cx="609840" cy="76176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809880"/>
            <a:ext cx="609840" cy="762120"/>
          </a:xfrm>
          <a:prstGeom prst="upArrow">
            <a:avLst>
              <a:gd name="adj1" fmla="val 50000"/>
              <a:gd name="adj2" fmla="val 3124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137160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106668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3809880"/>
            <a:ext cx="533160" cy="762120"/>
          </a:xfrm>
          <a:prstGeom prst="downArrow">
            <a:avLst>
              <a:gd name="adj1" fmla="val 50000"/>
              <a:gd name="adj2" fmla="val 3573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9907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1295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609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495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7242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1523880" cy="1471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580000" y="2276640"/>
            <a:ext cx="1876320" cy="1093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492360" y="46530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-108000" y="2492280"/>
            <a:ext cx="23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AC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2492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U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546200"/>
            <a:ext cx="3743280" cy="874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3068640"/>
            <a:ext cx="3745080" cy="1031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1592280"/>
            <a:ext cx="3816360" cy="8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2924280"/>
            <a:ext cx="4105080" cy="1189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6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7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8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OCIÓN DE SISTEM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NÁ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racterística fundamental que interesa considerar es la evolución del sistema en el tiempo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rminar las interacciones que permiten observar su evol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5715000"/>
            <a:ext cx="857160" cy="80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4343400"/>
            <a:ext cx="237492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mites del 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lección de aquellos componentes que sirvan para generar los modos de compor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pacio en donde se llevará a cabo el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e toman en cuenta aspectos irrelev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ementos y relaciones en los model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sistema esta formado por un conjunto de elementos en inter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l mismo modelo se pueden generar distintos mode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3389400"/>
            <a:ext cx="398484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empus Sans ITC"/>
              </a:rPr>
              <a:t>Diagramas Causales: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empus Sans ITC"/>
              </a:rPr>
              <a:t> Tipo de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empus Sans IT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empus Sans ITC"/>
              </a:rPr>
              <a:t>Variables exógenas</a:t>
            </a:r>
            <a:r>
              <a:rPr b="0" lang="es-ES" sz="4400" spc="-1" strike="noStrike">
                <a:solidFill>
                  <a:srgbClr val="000000"/>
                </a:solidFill>
                <a:latin typeface="Tempus Sans ITC"/>
              </a:rPr>
              <a:t>: Afectan al sistema sin que este las provo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empus Sans IT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empus Sans ITC"/>
              </a:rPr>
              <a:t>Variables endógenas</a:t>
            </a:r>
            <a:r>
              <a:rPr b="0" lang="es-ES" sz="4400" spc="-1" strike="noStrike">
                <a:solidFill>
                  <a:srgbClr val="000000"/>
                </a:solidFill>
                <a:latin typeface="Tempus Sans ITC"/>
              </a:rPr>
              <a:t>: Afectan al sistema pero este sí las provo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agramas Cau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estran el comportamiento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conocer la estructura de un sistema dinámico, dada por la especificación de las variables y la relación de cada par d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571760" cy="1371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00200" y="3657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352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   “A tiene influencia en 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419112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3886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“a un aumento de A corresponde un aumento de B” (relación posi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533412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5029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“a un aumento de A corresponde una disminución de B” (relación nega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agramas Causale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pos de relaciones que ligan dos elementos entres 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905120"/>
            <a:ext cx="77724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empus Sans ITC"/>
              </a:rPr>
              <a:t>RELACIÓN CAUSAL</a:t>
            </a:r>
            <a:r>
              <a:rPr b="0" lang="es-ES" sz="3200" spc="-1" strike="noStrike">
                <a:solidFill>
                  <a:srgbClr val="000000"/>
                </a:solidFill>
                <a:latin typeface="Tempus Sans ITC"/>
              </a:rPr>
              <a:t>: Aquella en la que un elemento A determina a otro B, con relación de Causa a Ef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empus Sans ITC"/>
              </a:rPr>
              <a:t>RELACIÓN CORRELATIVA</a:t>
            </a:r>
            <a:r>
              <a:rPr b="0" lang="es-ES" sz="3200" spc="-1" strike="noStrike">
                <a:solidFill>
                  <a:srgbClr val="000000"/>
                </a:solidFill>
                <a:latin typeface="Tempus Sans ITC"/>
              </a:rPr>
              <a:t>: Existencia de una correlación entre dos elementos del sistema, sin existir entre ellos una relación Causa-Efec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Arial"/>
              </a:rPr>
              <a:t>Cómo se debe de desarrollar un diagrama Cau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istar todas las variables posibles, pueden ser cuantitativas y cualitativ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749"/>
              </a:spcBef>
              <a:buClr>
                <a:srgbClr val="66ff33"/>
              </a:buClr>
              <a:buFont typeface="Zapf Dingbats" charset="2"/>
              <a:buChar char="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V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749"/>
              </a:spcBef>
              <a:buClr>
                <a:srgbClr val="66ff33"/>
              </a:buClr>
              <a:buFont typeface="Zapf Dingbats" charset="2"/>
              <a:buChar char="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E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evisar la lista para refinar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749"/>
              </a:spcBef>
              <a:buClr>
                <a:srgbClr val="66ff33"/>
              </a:buClr>
              <a:buFont typeface="Zapf Dingbats" charset="2"/>
              <a:buChar char="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Revisar si alguna variable ya está incluida en otra o significan l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749"/>
              </a:spcBef>
              <a:buClr>
                <a:srgbClr val="66ff33"/>
              </a:buClr>
              <a:buFont typeface="Zapf Dingbats" charset="2"/>
              <a:buChar char="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Si es realmente crítica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Arial"/>
              </a:rPr>
              <a:t>Cómo se debe de desarrollar un diagrama Cau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1413000"/>
            <a:ext cx="777240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Poner un nombre adecuado a l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250"/>
              </a:spcBef>
              <a:buClr>
                <a:srgbClr val="009999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Usar sustantivos, no verb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SI: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NO: Desarrollar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SI: Gana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NO: Ser re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250"/>
              </a:spcBef>
              <a:buClr>
                <a:srgbClr val="66ff33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Usar nombres más neutrales o posi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SI: Satisfacción en 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NO: Inconformidad con 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SI: Moral en el Recurso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NO: Mala vi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3:40:52Z</dcterms:created>
  <dc:creator>Oscar Ascón Valdivia</dc:creator>
  <dc:description/>
  <dc:language>en-US</dc:language>
  <cp:lastModifiedBy>PC</cp:lastModifiedBy>
  <dcterms:modified xsi:type="dcterms:W3CDTF">2008-04-21T13:25:50Z</dcterms:modified>
  <cp:revision>4</cp:revision>
  <dc:subject/>
  <dc:title>III. ELEMENTOS DE LA DINÁMICA DE SISTEMAS</dc:title>
</cp:coreProperties>
</file>